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AB4-A913-4794-8671-3E749579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A3F-6736-4F94-A02F-91E4868B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967-C29A-4E70-88F3-FA020CB1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596-D0BB-41BE-BA7B-DE053A1A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36B-3863-47B0-AE0E-8060587E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B5D-08E0-47C9-992D-87AAF5D3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5FA-246F-486B-9EEF-3033543D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446-F7FC-4EC5-8FE6-10343675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678-91EE-4FCC-A4D1-4226B6D4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458-D377-463E-8DB5-277EFE35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B3B-C1E6-4C43-8ED5-0E475C44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D77-A6C8-476E-B443-752ABF2C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0EEE-38FE-4BEB-A5EC-C94F65524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hristianse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2920" y="4495680"/>
            <a:ext cx="19810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March 0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304920"/>
            <a:ext cx="6400800" cy="337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008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EGOS</a:t>
            </a:r>
            <a:endParaRPr b="0" lang="en-US" sz="1800" spc="1" strike="noStrike">
              <a:ln cap="rnd" w="12600">
                <a:solidFill>
                  <a:srgbClr val="008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39625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323 -0.11191 C -0.40417 -0.07561 -0.61493 -0.03907 -0.64723 -0.12462 C -0.67952 -0.21017 -0.46233 -0.61341 -0.38698 -0.62566 C -0.31164 -0.63792 -0.1533 -0.28 -0.19479 -0.19861 C -0.23629 -0.11722 -0.60486 -0.07075 -0.63611 -0.13734 C -0.66736 -0.20393 -0.45382 -0.58404 -0.38212 -0.59815 C -0.31042 -0.61225 -0.16563 -0.29364 -0.20591 -0.22173 C -0.24618 -0.14982 -0.59306 -0.1089 -0.62344 -0.16693 C -0.65382 -0.22497 -0.45625 -0.55838 -0.38854 -0.57063 C -0.32084 -0.58289 -0.18507 -0.30335 -0.21702 -0.24092 C -0.24896 -0.1785 -0.5507 -0.15352 -0.58056 -0.19653 C -0.61042 -0.23954 -0.45348 -0.48647 -0.39636 -0.49873 C -0.33924 -0.51098 -0.21302 -0.31699 -0.23768 -0.27052 C -0.26233 -0.22404 -0.51684 -0.19075 -0.5441 -0.21965 C -0.57136 -0.24855 -0.44618 -0.43306 -0.40122 -0.4437 C -0.35625 -0.45433 -0.25695 -0.31607 -0.27414 -0.28324 C -0.29132 -0.2504 -0.48594 -0.22774 -0.50434 -0.24717 C -0.52275 -0.26659 -0.4191 -0.39167 -0.38525 -0.3993 C -0.35139 -0.40693 -0.28664 -0.31399 -0.30122 -0.29364 C -0.3158 -0.27329 -0.45591 -0.2652 -0.47257 -0.27676 C -0.48924 -0.28832 -0.42639 -0.35861 -0.40122 -0.36347 C -0.37604 -0.36832 -0.31459 -0.31653 -0.32188 -0.30636 C -0.32917 -0.29618 -0.43368 -0.29549 -0.44566 -0.30219 C -0.45764 -0.3089 -0.40903 -0.34243 -0.39323 -0.34659 C -0.37743 -0.35075 -0.34931 -0.33179 -0.35035 -0.32763 C -0.35139 -0.32347 -0.3941 -0.32 -0.39966 -0.32115 C -0.40521 -0.32231 -0.38716 -0.33202 -0.38368 -0.33387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18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Christiansen"/>
          <p:cNvPicPr/>
          <p:nvPr/>
        </p:nvPicPr>
        <p:blipFill>
          <a:blip r:embed="rId1"/>
          <a:stretch/>
        </p:blipFill>
        <p:spPr>
          <a:xfrm>
            <a:off x="1523880" y="0"/>
            <a:ext cx="5943600" cy="25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7400" y="2514600"/>
            <a:ext cx="4800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g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h9, 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hristian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264 0.38359 C 0.02483 0.45989 -0.38299 0.53619 -0.51024 0.38359 C -0.6375 0.23099 -0.47847 -0.39514 -0.3309 -0.53179 C -0.18333 -0.66844 0.26094 -0.57248 0.37552 -0.43653 C 0.4901 -0.30011 0.48837 0.15538 0.35642 0.28648 C 0.22448 0.41758 -0.31007 0.48162 -0.41667 0.34983 C -0.52309 0.21804 -0.41163 -0.38566 -0.28333 -0.50427 C -0.15503 -0.62289 0.25417 -0.47815 0.3533 -0.36254 C 0.45243 -0.24693 0.42778 0.07954 0.31198 0.18914 C 0.19618 0.29873 -0.24757 0.40324 -0.34201 0.2948 C -0.43646 0.18636 -0.35017 -0.35052 -0.25469 -0.46196 C -0.1592 -0.57341 0.1316 -0.44508 0.23108 -0.37318 C 0.33056 -0.30127 0.38802 -0.1304 0.34219 -0.03075 C 0.29635 0.06891 0.06163 0.18382 -0.04358 0.22497 C -0.14878 0.26613 -0.25885 0.31422 -0.28958 0.21665 C -0.32031 0.11908 -0.30799 -0.27699 -0.22778 -0.36046 C -0.14757 -0.44393 0.10295 -0.32924 0.19132 -0.28439 C 0.27969 -0.23953 0.30764 -0.14196 0.30243 -0.09202 C 0.29722 -0.04208 0.20365 -0.01641 0.15955 0.01573 C 0.11545 0.04786 0.07674 0.08162 0.03733 0.10035 C -0.00208 0.11908 -0.05017 0.1163 -0.07691 0.12786 C -0.10365 0.13943 -0.10937 0.16023 -0.12292 0.17018 C -0.13646 0.18012 -0.13958 0.19099 -0.15781 0.18706 C -0.17604 0.18312 -0.21875 0.15954 -0.23247 0.14682 C -0.24618 0.13411 -0.23889 0.12509 -0.24045 0.11099 C -0.24201 0.09688 -0.24306 0.08763 -0.24201 0.0622 C -0.24097 0.03677 -0.23715 -0.00624 -0.23403 -0.04138 C -0.2309 -0.07653 -0.22483 -0.12763 -0.22292 -0.14913 C -0.22101 -0.17063 -0.22292 -0.16277 -0.22292 -0.17017 C -0.22292 -0.17757 -0.22396 -0.1815 -0.22292 -0.19352 C -0.22187 -0.20555 -0.21979 -0.22705 -0.21667 -0.24208 C -0.21354 -0.25711 -0.23316 -0.27422 -0.20399 -0.28439 C -0.17483 -0.29456 -0.11476 -0.32809 -0.04201 -0.30335 C 0.03073 -0.27861 0.21354 -0.18497 0.23264 -0.13641 C 0.25174 -0.08786 0.13837 -0.05086 0.07222 -0.01179 C 0.00608 0.02729 -0.12569 0.13203 -0.16424 0.09827 C -0.20278 0.06451 -0.20312 -0.16531 -0.15955 -0.21456 C -0.11597 -0.26381 0.03958 -0.21271 0.09774 -0.19768 C 0.1559 -0.18266 0.22778 -0.16277 0.18976 -0.1237 C 0.15174 -0.08462 -0.07951 0.04648 -0.1309 0.037 C -0.18229 0.02752 -0.16181 -0.15005 -0.11823 -0.18081 C -0.07465 -0.21156 0.12465 -0.17179 0.13108 -0.14705 C 0.1375 -0.12231 -0.04306 -0.03329 -0.08003 -0.03283 C -0.11701 -0.03237 -0.1125 -0.12832 -0.09115 -0.14497 C -0.06979 -0.16161 0.04184 -0.14312 0.04844 -0.13225 C 0.05503 -0.12138 -0.03993 -0.08046 -0.05156 -0.0793 C -0.06319 -0.07815 -0.02951 -0.11953 -0.02135 -0.12578 C -0.01319 -0.13202 -0.00243 -0.12138 -0.00226 -0.11745 C -0.00208 -0.11352 -0.01719 -0.10312 -0.01979 -0.10266 C -0.0224 -0.10219 -0.02031 -0.1089 -0.01823 -0.11537 E">
                                      <p:cBhvr>
                                        <p:cTn id="5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 :Ole Kirk Christian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e Kirk Christiansen was born in 18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de his own business in 19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nvented the legos in 193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ego stes were sold in 196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de it for some young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429 -0.21989 L 0.446 0.65688 E">
                                      <p:cBhvr>
                                        <p:cTn id="132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40208 -0.04971 L 0.40208 0.28324 E">
                                      <p:cBhvr>
                                        <p:cTn id="136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8055 -0.1015 L -0.18055 0.23145 E">
                                      <p:cBhvr>
                                        <p:cTn id="140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53646 -0.48625 L -0.35521 0.40162 E">
                                      <p:cBhvr>
                                        <p:cTn id="14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1684 -0.58242 L 0.0335 0.30544 E">
                                      <p:cBhvr>
                                        <p:cTn id="148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 L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an use legos to bu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ell it in over 130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s could use it as a t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o mean play well in D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os are made out of different pla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44:52Z</dcterms:created>
  <dc:creator>install</dc:creator>
  <dc:description/>
  <dc:language>en-US</dc:language>
  <cp:lastModifiedBy>install</cp:lastModifiedBy>
  <dcterms:modified xsi:type="dcterms:W3CDTF">2010-03-22T16:07:00Z</dcterms:modified>
  <cp:revision>9</cp:revision>
  <dc:subject/>
  <dc:title>Slide 1</dc:title>
</cp:coreProperties>
</file>